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879-A772-4438-B793-C7A8403B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FC3-8970-4E88-AD16-0B8FE06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439-35AB-47AB-9918-097EF548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864-B75A-407F-833E-572CA3F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BAB-1718-4012-9CA0-8835935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8A6-13BC-49AF-B056-B162AFE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53E-7B6E-460F-A965-433DF65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D99-A68B-4E69-AE25-FA520DB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3CE-6FE2-48C8-9D44-6B7C65A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507-094F-4C9D-8FF2-4A29A6E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F2B-E14D-46F0-81E5-822BAC7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1A8-51B2-48A4-8C82-EAD6D09F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8B0-17B0-4B53-85D7-D713268D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ener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en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: to review the preterite tens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 el DVD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atica en V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r las actividades en el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6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write the corrected paragraph in your note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8088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04:32Z</dcterms:created>
  <dc:creator>Helen Zumaeta</dc:creator>
  <dc:description/>
  <dc:language>en-US</dc:language>
  <cp:lastModifiedBy>Helen Zumaeta</cp:lastModifiedBy>
  <dcterms:modified xsi:type="dcterms:W3CDTF">2016-04-14T19:30:09Z</dcterms:modified>
  <cp:revision>9</cp:revision>
  <dc:subject/>
  <dc:title>Me llamo _________ Clase 8IM La fecha es el 14 de diciembre del 2012</dc:title>
</cp:coreProperties>
</file>